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C1F-5DF8-456A-8D67-87C6A4D9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DC1-3AA8-4F6A-9A2F-8F4E9064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2B4-6600-4620-9A31-C00FBBB4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8D2-1367-42C8-BB39-B22BCE9C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DCB-A1F8-483F-ACEB-58FC907F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45B-5291-4913-94D1-D5619E6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9BC-C1BB-4F63-8CC8-842CDE89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0C5-F308-42E4-92B3-9E80703D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E11-35ED-4FF0-85E9-C7098764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7D1-F581-47A0-82DE-AA1007BC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190-013C-42E5-98A4-BE9C36AC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D60-30C7-4673-A205-F8E0A4D9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8F5F-7AA5-4E61-B24B-6F217B9C519D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BFCE-E26F-426B-A24E-E9D0F7D6996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0"/>
          <p:cNvSpPr/>
          <p:nvPr/>
        </p:nvSpPr>
        <p:spPr>
          <a:xfrm>
            <a:off x="428760" y="2286000"/>
            <a:ext cx="82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icolos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compresi quelli di cui all’art. 212 c. 8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n pericolos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lavorazione industriali, artigianali, da recupero e smaltimento rifiuti, fanghi 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Art. 184 c. 3 lett. c, d e g)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mercianti, intermed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sorz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tituiti per il recupero e il riciclaggio di particolari tipologie di rifi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che raccolgon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rasportano rifiuti speci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art. 212 c. 5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che effettuan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operazioni di recupero e smalt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i e gli Enti e le imprese che gestiscono 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rifiuti urba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nel territorio della Regione  Camp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14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A722-1FDD-4EEF-B1C4-D093FA38D3B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47" name="Connettore 1 11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9"/>
          <p:cNvSpPr/>
          <p:nvPr/>
        </p:nvSpPr>
        <p:spPr>
          <a:xfrm>
            <a:off x="7077960" y="628668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ttangolo 7"/>
          <p:cNvGrpSpPr/>
          <p:nvPr/>
        </p:nvGrpSpPr>
        <p:grpSpPr>
          <a:xfrm>
            <a:off x="493560" y="2352600"/>
            <a:ext cx="7944120" cy="4322880"/>
            <a:chOff x="493560" y="2352600"/>
            <a:chExt cx="7944120" cy="4322880"/>
          </a:xfrm>
        </p:grpSpPr>
        <p:pic>
          <p:nvPicPr>
            <p:cNvPr id="51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352600"/>
              <a:ext cx="79441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0040" y="2357280"/>
              <a:ext cx="7929720" cy="42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sporto marittimo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il terminalista concessionario dell’area portuale di cui all’art. 18 della Legge 28 gennaio 1994, n. 84 e l’impresa portuale di cui all’art. 16 della citata Legge n. 84 del 1994, ai quali sono affidati i rifiuti in attesa di imbarco o allo sbarco, in attesa del successivo traspor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trasporto ferroviario, i responsabili degli uffici di gestione merci e gli operatori logistici presso le stazioni ferroviarie, gli interporti, gli impianti di terminalizzazione e gli scali merci ai quali sono affidati i rifiuti in attesa della presa in carico degli stessi da parte dell’impresa ferroviaria o dell’impresa che effettua il successivo traspor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3B2-7981-4251-B2EF-1ED69410C69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1214280"/>
            <a:ext cx="835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ettangolo 7"/>
          <p:cNvGrpSpPr/>
          <p:nvPr/>
        </p:nvGrpSpPr>
        <p:grpSpPr>
          <a:xfrm>
            <a:off x="493560" y="2779560"/>
            <a:ext cx="7944120" cy="2687760"/>
            <a:chOff x="493560" y="2779560"/>
            <a:chExt cx="7944120" cy="2687760"/>
          </a:xfrm>
        </p:grpSpPr>
        <p:pic>
          <p:nvPicPr>
            <p:cNvPr id="60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779560"/>
              <a:ext cx="79441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0040" y="2786040"/>
              <a:ext cx="7929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icolosi 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&lt; 50 dipendent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compresi quelli di cui all’art. 212 c. 8 del Dlgs 152/200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rese e en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n pericolos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 lavorazione industriali, artigianali, da recupero e smaltimento rifiuti, fangh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 (Art. 184 c. 3 lett. c, d e g)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 da 11 a 50 dipend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20E7-BD29-4978-8479-9A350FFCD26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285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Calibri"/>
              </a:rPr>
              <a:t>Iscrizione SISTRI: </a:t>
            </a: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38:45Z</dcterms:created>
  <dc:creator>Roberta Scarinci</dc:creator>
  <dc:description/>
  <dc:language>en-US</dc:language>
  <cp:lastModifiedBy>Cristina Zani</cp:lastModifiedBy>
  <dcterms:modified xsi:type="dcterms:W3CDTF">2010-06-03T14:10:27Z</dcterms:modified>
  <cp:revision>191</cp:revision>
  <dc:subject/>
  <dc:title>SISTRI</dc:title>
</cp:coreProperties>
</file>